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B07-5295-42CD-92AA-1EEEA9B8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500-785E-49C5-8771-432BAA1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AAE-FECB-4895-B54F-7F5EE56D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6CA-82DE-4351-AFD8-5632CD44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56B7-A51A-46A9-A8A6-5E5D8060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EB1-CCD9-407B-AA44-C33E1EF5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1B3-2F3C-4BCC-A8A9-3D6AE77B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35D-78C8-4542-A525-53EF7BBD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BE6-5F02-4983-920B-5BADE2CB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C435-6642-415F-A721-93EA074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EB4-8CF8-4875-8387-5728ACA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5C6-CB71-4BAC-B9DE-3E09C0D4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73E6-A7D4-40FE-921F-E557486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F90-493F-424A-8A0A-05F27E6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61C-227E-47EB-8348-95BA3AE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19C1-F9E4-41FA-B392-24842707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3792-70E7-4C59-A1F7-8E828736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8BB-88D0-48AA-99AF-47CC659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AA7-09B4-4687-BAB2-5E0757B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433-8E42-468D-891C-203801C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3BC-9E99-463F-8DD9-50DF424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EDD-50E8-4BCE-9F9C-C127A1E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47F-AFF6-4AC6-95A4-AA537E2B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700-CD2A-4FCD-83E0-32449A9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2542-F14C-4888-BF96-BD58DAEDA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191-C2A3-4144-8E99-9742B020A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tructuralism &amp; Semiotic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enders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Barthes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 five 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arthes identifies five codes which he says provide the underlying narrative structures for all literatur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en reading, attempt to place a work in the system of code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codes are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oairetic - provides indications of actions;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lity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  Ex: The ship sailed at noon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ermeneutic - poses questions or enigmas that provide narrative suspense and involve the reader.  Ex: if the narration indicates a knock on the door, the reader asks herself,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o is it?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Cultural - contains references beyond the text which are considered common knowledge (allusions, metonymy).  Ex: if a character is described as driving a hybrid car, there are certain cultural assumptions attached to that character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. Semic - linked to a theme on the character level, when a series of signs and ideas surround an individual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5. Symbolic - linked to theme on a larger level.  Consists of contrasts and pairings related to the most basic binary polarities - man/woman, good/evil, lost/recovered, etc. 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rye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 fictional mod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TH - the hero is superior in kind to other men and the environment of other men; generally a story about a go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OMANCE - the hero is superior in degree to other men; ordinary laws of nature are suspended; often has supernatural power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ictional m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IGH MIMETIC - superior to men, but not to the environment; hero is a leader.  (Often found in epic and tragedy.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W MIMETIC - Jane Austen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bread and butter.  Everyday hero; appeals to our common sense of humanity.  Romantic comedie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Fictional modes continued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RONIC - hero is inferior to other men or his environment.  Ben Stiller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lifeline.  Includes satir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pply these modes to tragedies and comedies.  Thus, you can have a high mimetic tragedy (Macbeth) or a low mimetic comedy (Pride &amp; Prejudice)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finition: a symbol, usually an image, which recurs often enough in literature to be recognizable as an element of one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literary experience as a whole (individually and collectively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vs. Demoni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pocalyptic: archetypes that reflect ultimate human desire (roughly equated with our sense of heave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monic: archetypes that reflect everything that society rejects; a total inversion of the apocalyptic (roughly equated with our sense of hell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al form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vine world = society of god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uman world = society of me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nimal world = domesticated flock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egetable world = garde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neral world = cities, constructio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udes to know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erdinand deSauss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laude Levi-Straus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oland Barth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Jacques Lacan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chel Foucaul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Northrop Frye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divin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Go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l ultimate unit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dealized worl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gic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mphasis on heavenly bodi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* Mythical AND analogic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human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ne ma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rist (though he operates in a divine context as well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3 types of fulfillment: individual, social, and sexu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hilosopher-king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xual symbolism - two bodies become on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ste people, like Sir Galaha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anim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flock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King as shepher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irds (esp. dove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orses and hounds (romanc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Unicorn (emblem of virgin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s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veggi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Tree (of Lif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ruit and leaves on a tree = bread and wine (communio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lowers (esp. flower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nchanted forests of Shakespeare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comedies, Robin Hood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pocalyptic imagery: miner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e Building, Temple, or Ston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ity =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ouse of many mansions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Geometrical and architectural imag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airways, ladders, even Rapunzel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hair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divin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erversions of apocalyptic imagery are called MODULATIO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ast, menacing powers of na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at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nse of human remoteness and futilit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human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go runs rampa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erversion of the 3 areas of fulfillment in apocalyptic imager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yalty to a tyrant diminishes the individu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acrificial victim, scapegoa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ob violence blends the first 2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anim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onsters, beasts of pre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lf, traditional enemy of sheep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ul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rpe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ragon (soooo contextual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veggi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nister fores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eath (recall Macbeth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ste lan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caffold (as a modulation of the tree of life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emonic imagery: mineral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ste land (again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ities of sin and destruction (Babel, Reno, etc.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mages of perverted work (instruments of torture or war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nister spirals (maelstrom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s a literary theory, developed in the 1950s and 1960s, adopted from theories other areas such as sociology, psychoanalysis, anthropology, etc.  **All interrelated!**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ctionary criticism, attempts to place literature into a system and assign value judgments to work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Archetypes and Cycl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mages fall into cyclical movement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vine = death/rebirth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ire-world = heavenly bodi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Human = dreaming/waking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nimal = life/death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Veggie = natural cycles (seasons)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ineral = golden ages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ater cycl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ycles and Genre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 Mythoi: generic plot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se 4 mythoi can be seen as aspects of a single unifying myth, which corresponds this way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gon - confli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thos - catastroph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paragmos - anarch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agnorisis - recognition/triumph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Spring: Comed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Young man wants young woma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sisted by some op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wist enables the hero to have his will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ppearance/adoption of a new society or social order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Often paternal figures provide op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Plot line is generally CONSERVATIVE (society returns to what is “right”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Summer: Romanc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Quest/adventure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Perilous journey, crucial struggle, exaltation of the hero.  (Notice how the 3-part structure parallels that of comedy.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rchetype: dragon-killing, leviathan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an be applied to Exodu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onnected to fertility rite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ANARCHISTIC (no societal resolution; create one’s own society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Autumn: Traged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Tragedy actually moves cyclically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Hero is on top of the wheel of fortune; when he declines, his subordinates do his living for him.  In some tragedies (Adam), the hero creates new life after the fall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Sense of natural law and justice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Binary structure instead of tertiary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RADICAL (changes in society must be made, and at great cost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Mythos of Winter: Irony/Satir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member that irony is </a:t>
            </a:r>
            <a:r>
              <a:rPr b="1" i="1" lang="ja-JP" sz="3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realistic</a:t>
            </a:r>
            <a:r>
              <a:rPr b="1" i="1" lang="ja-JP" sz="3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; we are supposed to look down on characters and events from a higher position.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Satire is militant irony: wit founded on a sense of the absurd, and an object of attack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Generally LIBERAL (political change is a myth; accept acceptance)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heeee!  You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re done!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aning occurs through difference and SIGNS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relationship to each other.  Ex: woman vs. lad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uch of our imaginative world is structured in binary sets (opposites) which assign structure and meaning to signs.  Ex: cruel vs. human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orms the basis of SEMIOTICS, the study of sig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ign = union of SIGNIFIER and SIGNIFIED.  Ex: c-a-t, fuzzy critter that goes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ow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DES provide signs with context - cultural context, literary context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mphasizes that humans create meaning.  Structuralism, then, allows us to examine our relationships with literature, art, society, etc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ur sense of self -- our consciousness -- exists in relation to outside collective influences.  We are NOT self-contained!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inciples of Structuralism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ality is conventional; our perceptions of the world around us are bound up in conventions, codes, signs, etc.  The 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ocial construction of reality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ructuralism</a:t>
            </a: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 ultimate argument is this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re is a connection between our concept of reality, the self, society, consciousness, and unconsciousness.  They are all connected to each other and are bound by the same laws, signs, and conventions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hen reading a 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ext</a:t>
            </a:r>
            <a:r>
              <a:rPr b="0" lang="ja-JP" sz="4400" spc="-1" strike="noStrike">
                <a:solidFill>
                  <a:srgbClr val="ffd467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ook for…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rallels in plo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choes in structur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flections/repetitions in character/motiv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ntrasts in situation/circumstanc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tterns in language/imagery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3:29:05Z</dcterms:created>
  <dc:creator>Kathryn Henderson</dc:creator>
  <dc:description/>
  <dc:language>en-US</dc:language>
  <cp:lastModifiedBy>Kathryn Henderson</cp:lastModifiedBy>
  <dcterms:modified xsi:type="dcterms:W3CDTF">2013-03-12T02:32:26Z</dcterms:modified>
  <cp:revision>5</cp:revision>
  <dc:subject/>
  <dc:title>Structuralism &amp; Semiotics</dc:title>
</cp:coreProperties>
</file>